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220-22FB-4992-AC0F-9E1A4344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981-6E36-437D-BB63-13C9845D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C64-4D6A-4457-96B4-9F6F8CFE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003-5FD8-40A7-B2D5-BD7FBDE3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B7EF7-AC12-4719-966F-7399093C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AF35D-F574-4222-8416-0C78EDD5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4BAD3-007B-469B-A452-9B6B627D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0EE10-DDC5-4A86-B232-40040F7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19756-C3DF-49DE-83DD-EE24F4B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92C9F-4D1B-4EF2-B3B9-3D4D11E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A2745-3E36-459C-930E-4537FF40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F6F-53DC-4BD4-A857-2340D2DA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D333-AF4D-4C1E-98BD-46663D9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E7E77-2E61-4167-AD89-7ECB28C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C3BCC-34E9-4514-9CCD-32510899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31016-F13F-499A-A7A7-38ED2ADE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56B81-F8A8-411B-928D-1456DC50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79A-8581-43B0-A77E-0630CA0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B98-4DB5-4611-96EF-918B991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435-3EA7-485A-AEE2-77939AA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ED0-E692-4AEB-B874-A90D7C3E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E6D-7B72-4BAD-92CA-D6FD75FA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2DF-F523-43AB-A8AB-91F2F174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872-507F-4FA4-A490-75395C7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EFE6-9468-48E4-889D-A6221E1B29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944-8DE7-41B4-8EE2-FD082068F2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agyobb vagy Te, Uram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agyobb vagy mindennél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ónodhoz járulok, Uram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És betöltesz Szellemeddel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űséges, kegyelme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enséges, szerelme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z Úr az én Uram a megfeszíttetet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rő, dicsőség Neked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kem minden álmo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jelenlétedből él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inden sóhajtásunk szívedig elér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ó elér, ó elér! A szívedig elé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1:36:55Z</dcterms:created>
  <dc:creator>LG</dc:creator>
  <dc:description/>
  <dc:language>en-US</dc:language>
  <cp:lastModifiedBy>Balázs</cp:lastModifiedBy>
  <dcterms:modified xsi:type="dcterms:W3CDTF">2008-01-25T12:10:21Z</dcterms:modified>
  <cp:revision>3</cp:revision>
  <dc:subject/>
  <dc:title>Nagyobb vagy Te Urunk</dc:title>
</cp:coreProperties>
</file>